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7.gif" ContentType="image/gif"/>
  <Override PartName="/ppt/media/image3.png" ContentType="image/png"/>
  <Override PartName="/ppt/media/image16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21C-9BEC-49C6-8414-45805CAC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63D-FDF9-4C57-94CE-7C4612BC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A60-7774-43FD-85A3-2E9ADBDE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77C-2C24-454C-BDEC-07DE1414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AF99-A51E-4F02-8AA7-784E5624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F676-D52F-4729-B1B9-97A7E9ED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1B69-3D05-4ED1-86BE-3F26B45A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A869-4335-4634-A8B0-CA904B12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1D56-0D2E-417C-B301-BA3FF612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45EB-7ECE-4E18-A052-0CD8E0A1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723F-A156-4FD9-B5FC-282B165C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7E5-3EAD-465C-AD77-4E8AFE22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9402-86E4-428F-97C1-20F898E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B6F9-BC20-4935-AF8B-84BDE10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7FFF-D948-4256-A686-386EE526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08B0-58E8-49D5-BF23-E9CDB446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8B32-805D-4136-9176-25B861D6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C60-4713-4DF7-9561-6D0F28E1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00D-F442-4BBD-BC9A-0EF00A38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7C8-1212-429D-932B-3516C82A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661-B2E4-4264-998F-7591223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4EF-225D-4248-A57D-985CB89D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FC2-36A5-4452-8712-2620000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BE1-3B7E-45A5-ADDA-87AFC70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F914-C064-448A-A609-3765E6C8B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80AC-0142-4804-A9FD-9480286A9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urendranath.tripod.com/Applets/Waves/Twave01/Twave01Applet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surendranath.tripod.com/Applets/Waves/Lwave01/Lwave01Applet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80880" y="55627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990720" y="609480"/>
            <a:ext cx="60958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AV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animClr clrSpc="rgb">
                                      <p:cBhvr>
                                        <p:cTn id="21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set>
                                      <p:cBhvr>
                                        <p:cTn id="22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arts of a Wav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6996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5543280" cy="2457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662940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304920" y="21337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” or equilibrium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03848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29528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657600" y="38098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6095880" y="37339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 rot="5400000">
            <a:off x="4495320" y="3733920"/>
            <a:ext cx="762120" cy="2438280"/>
          </a:xfrm>
          <a:custGeom>
            <a:avLst/>
            <a:gdLst>
              <a:gd name="textAreaLeft" fmla="*/ 0 w 762120"/>
              <a:gd name="textAreaRight" fmla="*/ 275040 w 7621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 flipH="1" flipV="1">
            <a:off x="7238880" y="3809880"/>
            <a:ext cx="15264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286000" y="1600200"/>
            <a:ext cx="144792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1066680" y="2819520"/>
            <a:ext cx="1676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>
            <a:off x="3200400" y="2819520"/>
            <a:ext cx="1143000" cy="990360"/>
          </a:xfrm>
          <a:custGeom>
            <a:avLst/>
            <a:gdLst>
              <a:gd name="textAreaLeft" fmla="*/ 730440 w 1143000"/>
              <a:gd name="textAreaRight" fmla="*/ 1143360 w 11430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7621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 flipV="1">
            <a:off x="2514600" y="3352320"/>
            <a:ext cx="6094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304920" y="609480"/>
          <a:ext cx="8458200" cy="5867640"/>
        </p:xfrm>
        <a:graphic>
          <a:graphicData uri="http://schemas.openxmlformats.org/drawingml/2006/table">
            <a:tbl>
              <a:tblPr/>
              <a:tblGrid>
                <a:gridCol w="1752480"/>
                <a:gridCol w="1447920"/>
                <a:gridCol w="1066680"/>
                <a:gridCol w="4191120"/>
              </a:tblGrid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Na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Un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Defini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ve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 b/w corresponding points on adjacent wa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“still” line (equilibri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st/Trou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of a Wave/Bottom of a Wa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plit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the “n” line to the crest or trou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vibrations per second measured at a fixed 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 time interval during which the motion repeats it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Picture 151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410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6"/>
          <p:cNvSpPr/>
          <p:nvPr/>
        </p:nvSpPr>
        <p:spPr>
          <a:xfrm>
            <a:off x="152280" y="556272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 | Electromagnetic Spectrum T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9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Object 48"/>
          <p:cNvGraphicFramePr/>
          <p:nvPr/>
        </p:nvGraphicFramePr>
        <p:xfrm>
          <a:off x="152280" y="152280"/>
          <a:ext cx="88394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809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Standing Wave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usical instruments have standing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des (destructiv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tinodes (constructiv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ine a standing wave as waves traveling in opposite directions, as they would if trapped in a tube (as in microwave ov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d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disturbed; medium i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is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tinod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point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reat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ispla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305240" cy="25430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304920" y="1752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on’t appear to be trav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5520" y="277920"/>
            <a:ext cx="2590920" cy="284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Standing Wav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099040" cy="6324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5943600" y="3429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867280" y="23623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 flipH="1" flipV="1">
            <a:off x="5181120" y="1371240"/>
            <a:ext cx="76212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 flipH="1">
            <a:off x="5181120" y="25909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4038480" y="2666880"/>
            <a:ext cx="19051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81120" y="3657600"/>
            <a:ext cx="762120" cy="152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Rectangle 11" descr=""/>
          <p:cNvPicPr/>
          <p:nvPr/>
        </p:nvPicPr>
        <p:blipFill>
          <a:blip r:embed="rId2"/>
          <a:stretch/>
        </p:blipFill>
        <p:spPr>
          <a:xfrm>
            <a:off x="5505480" y="4602240"/>
            <a:ext cx="3278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fr-FR" sz="5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/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 = 1 /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5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Factors Affecting Wave Speed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pend on the amplitude or frequency of the wave,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nly on the properties of the me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Law of Reflec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ngle of incidence = the angle of reflection” (assuming the same medi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t wave – inbound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cted wave – outbound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5105520" y="457200"/>
            <a:ext cx="3828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When Waves Travel Through Different Mediu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80880" y="1600200"/>
          <a:ext cx="8305920" cy="45259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 Wave Going From a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a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ts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ys 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When Waves Travel Through Different Mediu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a wave strikes a boundary and the st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retur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fix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o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eonardo da Vinc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“ waves move but water does  not; so 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aves transfer </a:t>
            </a:r>
            <a:r>
              <a:rPr b="1" i="1" lang="en-US" sz="3200" spc="-1" strike="noStrike">
                <a:solidFill>
                  <a:srgbClr val="99cc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 (energy) without transferring mat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mentu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m x v) transfer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hrough matter in a manner similar to the way E transfers from one sphere to another in Newton’s Cra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When Waves Travel Through Different Mediu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86" name="Content Placeholder 5" descr="74links.gif"/>
          <p:cNvPicPr/>
          <p:nvPr/>
        </p:nvPicPr>
        <p:blipFill>
          <a:blip r:embed="rId1"/>
          <a:stretch/>
        </p:blipFill>
        <p:spPr>
          <a:xfrm>
            <a:off x="3048120" y="2057400"/>
            <a:ext cx="5257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When Waves Strike a Barri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fractio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hen a wave strikes a boundary, some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reflected and some is transmitted or absor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ffractio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preading of waves around the edge of   a barrier (see graph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atural frequency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equency at which a standing wave is produced  (ie: glass breaking upon singing; car vibrates at certain speed; kidney stones blasted with soun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physics2000.com/Movies/Dog_View.mo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frequenc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st frequency – 1st har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overtone or 2nd har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vertone or 3rd har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0880" y="6172200"/>
            <a:ext cx="838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axwell.ucdavis.edu/~cole/phy9a/tacoma_narrows.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When Waves Mee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inciple of Superposi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– the displacement of  a medium caused by 2 or more waves is the algebraic sum of the displacement caused by the individual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 phase: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refers to the fact that the 2 combining crests and troughs are aligned; (if out of phase = they are not align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uperposition of Waves (this is a link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rference: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when 2 waves pass thru the same region of space at the same time, can be eith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Constructive or Destructive Interferenc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200400" y="4952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b85"/>
                </a:solidFill>
                <a:latin typeface="Arial"/>
              </a:rPr>
              <a:t>DESTRU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523880" y="914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1" descr="construct vs destructive.jpg"/>
          <p:cNvPicPr/>
          <p:nvPr/>
        </p:nvPicPr>
        <p:blipFill>
          <a:blip r:embed="rId1"/>
          <a:stretch/>
        </p:blipFill>
        <p:spPr>
          <a:xfrm>
            <a:off x="1752480" y="1592280"/>
            <a:ext cx="6934320" cy="4937040"/>
          </a:xfrm>
          <a:prstGeom prst="rect">
            <a:avLst/>
          </a:prstGeom>
          <a:ln w="0">
            <a:noFill/>
          </a:ln>
        </p:spPr>
      </p:pic>
      <p:sp>
        <p:nvSpPr>
          <p:cNvPr id="296" name="Right Arrow 12"/>
          <p:cNvSpPr/>
          <p:nvPr/>
        </p:nvSpPr>
        <p:spPr>
          <a:xfrm>
            <a:off x="0" y="2286000"/>
            <a:ext cx="2590920" cy="12193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Construc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ight Arrow 13"/>
          <p:cNvSpPr/>
          <p:nvPr/>
        </p:nvSpPr>
        <p:spPr>
          <a:xfrm>
            <a:off x="0" y="4648320"/>
            <a:ext cx="2743200" cy="121896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99" name="Content Placeholder 3" descr="wave interferences.jpg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look.gif"/>
          <p:cNvPicPr/>
          <p:nvPr/>
        </p:nvPicPr>
        <p:blipFill>
          <a:blip r:embed="rId2"/>
          <a:stretch/>
        </p:blipFill>
        <p:spPr>
          <a:xfrm>
            <a:off x="2666880" y="5216400"/>
            <a:ext cx="31244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otal Destructive Interferenc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523880" y="914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9" descr="TotalDestructive Interference"/>
          <p:cNvPicPr/>
          <p:nvPr/>
        </p:nvPicPr>
        <p:blipFill>
          <a:blip r:embed="rId1"/>
          <a:stretch/>
        </p:blipFill>
        <p:spPr>
          <a:xfrm>
            <a:off x="4572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95880" y="12952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: www.lcse.umn.edu/.../ images/tot_con_inter.gif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6172200" y="2666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al Applications: Sound-Canceling Headph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otal Constructive Interferenc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523880" y="914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[Totcal Constructive Interference Graphic]"/>
          <p:cNvPicPr/>
          <p:nvPr/>
        </p:nvPicPr>
        <p:blipFill>
          <a:blip r:embed="rId1"/>
          <a:stretch/>
        </p:blipFill>
        <p:spPr>
          <a:xfrm>
            <a:off x="533520" y="1295280"/>
            <a:ext cx="518148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7"/>
          <p:cNvSpPr/>
          <p:nvPr/>
        </p:nvSpPr>
        <p:spPr>
          <a:xfrm>
            <a:off x="6095880" y="121932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: www.lcse.umn.edu/.../ images/tot_con_inter.gif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ypes of Interferenc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600200"/>
          <a:ext cx="8305920" cy="44197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RU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The wave displacement is in the same direction or phase, resulting in waves with a greater amplitude than the orig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The wave displacement is in opposite directions or phases, resulting in the reduction of the amplitu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How Waves Relate to Sound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nd travels in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BELS*when waves are sound waves, the amplitude is measured in decibels (d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2520" y="228240"/>
            <a:ext cx="4038840" cy="238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66920" y="3657240"/>
            <a:ext cx="35053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s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243320" cy="25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1716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Basic Terminology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ul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 single disturbance of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energy transmitting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one place to another  (ie: slink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raveling wav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generated when a pulse move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long (ie) a slin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a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 series of pulses carrying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rom one plac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Types of Wav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echanical wav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require matter &amp; governed by Newton’s Laws (ie: water, sound, slinky spring); two types of mechanical waves to be discussed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lectromagnetic wav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no medium required; travel at the speed of light (3.00 E 8 m/s)  (ie: light, radio, x-rays, microwaves, infrared) e-m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tter wav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described by quantum mechanics (later – chapter 27)  (ie: e-‘s and other sm. partic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Mechanical Wave Typ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Mechanical Wa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ransvers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ngitudi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423 -0.11911 0.02864 -0.23821 0.04357 -0.20861 C 0.0585 -0.179 0.07396 0.17761 0.08993 0.17761 C 0.1059 0.17761 0.12291 -0.20884 0.13923 -0.20861 C 0.15555 -0.20838 0.17048 0.17877 0.18837 0.17946 C 0.20625 0.18015 0.22795 -0.20352 0.24635 -0.20467 C 0.26475 -0.20583 0.28177 0.1709 0.29861 0.17183 C 0.31545 0.17275 0.33125 -0.19473 0.34791 -0.19889 C 0.36441 -0.20306 0.38125 0.14616 0.39861 0.14662 C 0.4158 0.14708 0.43385 -0.19936 0.45069 -0.19681 C 0.46753 -0.19427 0.48212 0.15957 0.49982 0.16212 C 0.51771 0.16466 0.54062 -0.18155 0.5566 -0.18155 C 0.57257 -0.18155 0.5776 0.16304 0.59566 0.16212 C 0.61371 0.16119 0.64687 -0.1864 0.66528 -0.18733 C 0.68368 -0.18825 0.69479 -0.01596 0.7059 0.15633 E">
                                      <p:cBhvr>
                                        <p:cTn id="106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5503 -0.01966 0.51007 -0.03932 0.50278 -0.03677 C 0.49548 -0.03423 -0.04358 0.01064 -0.04358 0.01549 C -0.04358 0.02035 0.50295 -0.00971 0.50278 -0.00786 C 0.5026 -0.00601 -0.0441 0.02382 -0.04497 0.02706 C -0.04584 0.0303 0.49913 0.00879 0.49705 0.01156 C 0.49496 0.01434 -0.06215 0.03839 -0.05799 0.0444 C -0.05382 0.05042 0.52309 0.04672 0.5217 0.04833 C 0.52031 0.04995 0.03107 0.05319 -0.06667 0.05412 E">
                                      <p:cBhvr>
                                        <p:cTn id="110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ransverse Wav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ype of Mechanical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les vibrate at right angles to the direction of the wave’s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e: Piano and guitar strings;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6096240" cy="1752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609480" y="6248520"/>
            <a:ext cx="8001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surendranath.tripod.com/Applets/Waves/Twave01/Twave01Apple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Longitudinal Wav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type of mechanical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les move parallel to the direction of the wave (sound, liqu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7610400" cy="1797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137160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487692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ref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 rot="16200000">
            <a:off x="685440" y="5333760"/>
            <a:ext cx="1447920" cy="68580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rot="16200000">
            <a:off x="4229280" y="5067360"/>
            <a:ext cx="1295280" cy="914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33520" y="632448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surendranath.tripod.com/Applets/Waves/Lwave01/Lwave01Apple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for Animations and additional info!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Content Placeholder 3" descr="what's happening.gif"/>
          <p:cNvPicPr/>
          <p:nvPr/>
        </p:nvPicPr>
        <p:blipFill>
          <a:blip r:embed="rId1"/>
          <a:stretch/>
        </p:blipFill>
        <p:spPr>
          <a:xfrm>
            <a:off x="1219320" y="2224080"/>
            <a:ext cx="716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21:08:01Z</dcterms:created>
  <dc:creator>andreskim</dc:creator>
  <dc:description/>
  <dc:language>en-US</dc:language>
  <cp:lastModifiedBy>jluckey</cp:lastModifiedBy>
  <dcterms:modified xsi:type="dcterms:W3CDTF">2012-05-06T13:36:08Z</dcterms:modified>
  <cp:revision>134</cp:revision>
  <dc:subject/>
  <dc:title>Electricity</dc:title>
</cp:coreProperties>
</file>